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58E2-352C-4AE2-AA8D-3CF06785A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8835-12F0-4C11-9E04-C3482AE8F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C23-51F6-4E86-B518-F80EDA09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D46-3E61-4106-98CC-E04752A2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2E8-A71B-4483-8CC2-D9F47DC3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84D-F318-4306-956B-F1A38ACC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EF7E-A358-4AC0-A68A-6261BCB8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B151-6670-450F-9F16-9CC03D00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71F6-9131-485B-8755-03755AB8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B2CB-3143-49B7-89AC-85073779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60D9-B167-4CE3-8971-24D804D6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8EF5-2C41-4CD8-874D-36365262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4728-5745-45D0-8BC3-AD510CF5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2C8-2EFF-4B89-9232-1F4857EF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486E-9F0F-4BD3-A88B-7CF65742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1747-0CAD-4F10-8218-E75F166D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C245-EA71-4158-B163-67473652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FC03-BC8C-4C8B-96F8-5402139F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F9A4-3C5F-4C7B-9D9E-FC7367FF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503-F836-498B-A0D2-7BC09671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118-F81C-4437-844A-9D66BD90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ED7-1461-499B-AEA0-401965EC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A4F-BF3F-4333-AE8D-68711152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52F-E3B4-4224-B3F1-5CD5CA34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92B-D469-4EC9-8C85-80F12E47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F8D-E840-4F33-B217-8647531A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6B20-DC9B-481E-AE66-81F1A9468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21A6-40BD-4539-B3DF-1B837B901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23840" y="3124080"/>
          <a:ext cx="9020160" cy="3810240"/>
        </p:xfrm>
        <a:graphic>
          <a:graphicData uri="http://schemas.openxmlformats.org/drawingml/2006/table">
            <a:tbl>
              <a:tblPr/>
              <a:tblGrid>
                <a:gridCol w="6095880"/>
                <a:gridCol w="292428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i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el Us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279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imate WR and consumption of crops grown under different soils Climat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WAT (vr. 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aCrop (Vr.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sp>
        <p:nvSpPr>
          <p:cNvPr id="90" name="TextBox 2"/>
          <p:cNvSpPr/>
          <p:nvPr/>
        </p:nvSpPr>
        <p:spPr>
          <a:xfrm>
            <a:off x="22860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On-site Impacts- Water Demand and Water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85800" y="57150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t Vs alternative AWM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53416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rop water productivity modeling: Demand and impact at a field level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CWR and Consumption of crops grown on Vertisols under current and alternative AWM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54160" y="1371600"/>
            <a:ext cx="866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144000" cy="733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685800" y="1122480"/>
            <a:ext cx="8001000" cy="6767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9829800" cy="711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4"/>
          <a:stretch/>
        </p:blipFill>
        <p:spPr>
          <a:xfrm>
            <a:off x="990720" y="1058760"/>
            <a:ext cx="10228320" cy="689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5"/>
          <a:stretch/>
        </p:blipFill>
        <p:spPr>
          <a:xfrm>
            <a:off x="555480" y="3505320"/>
            <a:ext cx="8817120" cy="6197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6"/>
          <a:stretch/>
        </p:blipFill>
        <p:spPr>
          <a:xfrm>
            <a:off x="-25560" y="0"/>
            <a:ext cx="10439640" cy="963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able 1" descr=""/>
          <p:cNvPicPr/>
          <p:nvPr/>
        </p:nvPicPr>
        <p:blipFill>
          <a:blip r:embed="rId1"/>
          <a:stretch/>
        </p:blipFill>
        <p:spPr>
          <a:xfrm>
            <a:off x="30240" y="1006560"/>
            <a:ext cx="9083520" cy="4956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2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1: WR, Consumption and WP of wheat grown on BBF and Flat seedb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152280" y="6019920"/>
            <a:ext cx="609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BF and Flat beds planted on July 1 and August 15, respective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 2: WR, Consumption and WP of rice, grass-pea and extensively  grazed grass grown on flat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280" y="990720"/>
          <a:ext cx="8931240" cy="5492520"/>
        </p:xfrm>
        <a:graphic>
          <a:graphicData uri="http://schemas.openxmlformats.org/drawingml/2006/table">
            <a:tbl>
              <a:tblPr/>
              <a:tblGrid>
                <a:gridCol w="1189080"/>
                <a:gridCol w="1123920"/>
                <a:gridCol w="168480"/>
                <a:gridCol w="549000"/>
                <a:gridCol w="1276560"/>
                <a:gridCol w="1036440"/>
                <a:gridCol w="317520"/>
                <a:gridCol w="497160"/>
                <a:gridCol w="161640"/>
                <a:gridCol w="538200"/>
                <a:gridCol w="111240"/>
                <a:gridCol w="527040"/>
                <a:gridCol w="1434960"/>
              </a:tblGrid>
              <a:tr h="365400">
                <a:tc gridSpan="1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p type: Rice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 row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 (kg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eff. rain 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ETc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 WP (kg 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with respect 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mass WP with respect to eff. 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. 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we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we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44440">
                <a:tc gridSpan="1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 type: Grass -pea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we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we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43720">
                <a:tc gridSpan="1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 type: Pasture  (extensive grazing)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320">
                <a:tc rowSpan="2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1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mass (kg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. rain 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WR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mass WP (kg 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with respect to Actual  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BBF increased water demand, but reduced evaporation l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BF increased WP with respect to effective rainf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ing rice instead of grass-pea or grazing  increased water demand, but reduced evap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BBF on drainable and rice on flat land increased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Economic Water Produ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5:30:21Z</dcterms:created>
  <dc:creator>Erkossa, Teklu  (IWMI)</dc:creator>
  <dc:description/>
  <dc:language>en-US</dc:language>
  <cp:lastModifiedBy>LeBorgne, Ewen (ILRI)</cp:lastModifiedBy>
  <dcterms:modified xsi:type="dcterms:W3CDTF">2012-11-13T06:28:54Z</dcterms:modified>
  <cp:revision>52</cp:revision>
  <dc:subject/>
  <dc:title>Anticipating Impacts AWM Interventions</dc:title>
</cp:coreProperties>
</file>